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AD7-E72D-42BC-8C82-3462F3C0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ED4-A08C-4DAD-9B35-334C6CF6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511E-3FA3-4697-9E60-6F9C055E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B17-9746-44F9-88B4-3BE8083B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4B1-C3E5-4777-81FC-633FA0E9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A95-A4E2-4663-8D06-DC9DDB61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195-7D46-411C-8A47-A401CBE0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373-B7E0-4F0B-B36C-7B5B804E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775-1D45-4072-BDB4-F6051F5B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CFA-1BD0-45E7-BD0E-00F179B9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B99-E90D-43F5-ABCA-5250CDE0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230-5DB2-40B8-921C-D0E6045F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7EA0-622E-4C61-8484-BE6771F5B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d7d2b"/>
                </a:solidFill>
                <a:latin typeface="Arial"/>
              </a:rPr>
              <a:t>ЖИР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как  меньшее  1  двойную  свя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ий  при  комнатной 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 стенки  клеток  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ое  употребление  ведёт  к  ра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ытке  причиняет  слипание  эритроци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ненасыщенный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Виды  ненасыщенных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33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51814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1008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391520" y="5105520"/>
            <a:ext cx="804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ноненасыщенный  жир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одну  двойную  связ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«плохой»  холестери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Н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ий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В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 склонен  к  окисле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оливковое  масло, рапсовое  масло, миндал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1" lang="en-US" sz="5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 одной  двойной  связ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 ЛНП и Л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 тромб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  к  окисле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572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соевое  масло, кукурузное  масло, подсолнечное  масло, грецкие  орехи и др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генизация полиненасыщенных жиров производится путём добавления водорода к неустойчивым двойным связям. Благодаря этому эти жиры становятся менее подверженными окислению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яют свойства полиненасыщенных жиров, становясь более густы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ССЗ и подозреваются в причастности к заболеванию ра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гидрогенизированные жир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ъязычная  слюнная  железа  выделяет  фермент липаз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взрослых  она  играет  небольшую  роль  в  пищеварении  жир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749760"/>
            <a:ext cx="40388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удочная  липаза  расщепляет  небольшое  кол-во  жи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 покидают  желудок  очень  медленн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гр.  или  2 ч.л. в  час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0" y="4419720"/>
            <a:ext cx="27385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3600" y="2144880"/>
            <a:ext cx="3809880" cy="3875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6248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 кишечн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желудочная и кишечная липаза завершают расщепление жир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роисходит всасывание моноглицеридов, глицерина и жирных кислот.60% жира всасывается в лимфатическую систему, замедляя его поступление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РЕКОМЕНДУЕМЫЕ НОР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употреблять жиры в их природном состоянии, т.е. в орехах, семечках, семенах и пл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60 грамм орехов, семечек или 3-4 ст. л. растительного масла, плюс жиры, изначально находящихся в продуктах дают рекомендуемые 20-25% калорий из жиров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необходимы д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 стенок кле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жирорастворимых витами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яции и защ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чувства насы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я вкуса пи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ки незаменимых жирных кисло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600" y="233280"/>
          <a:ext cx="8686800" cy="66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8686800" cy="66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66720" y="228600"/>
          <a:ext cx="78105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28600"/>
                    <a:ext cx="78105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20640" y="457200"/>
          <a:ext cx="790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57200"/>
                    <a:ext cx="790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80880" y="5335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28520"/>
          <a:ext cx="79092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28520"/>
                    <a:ext cx="79092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23880" y="685800"/>
          <a:ext cx="7896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685800"/>
                    <a:ext cx="7896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880" y="3048120"/>
            <a:ext cx="3276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Толстый кише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ямая киш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стат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олочная желез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ат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Яи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Лёгк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324000"/>
          <a:ext cx="8610480" cy="76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4000"/>
                    <a:ext cx="8610480" cy="76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19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  включают  в  себя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 (жиры и масла)</a:t>
            </a:r>
            <a:r>
              <a:rPr b="1" lang="ru-RU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фосфолипиды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962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тери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</a:t>
            </a:r>
            <a:r>
              <a:rPr b="1" lang="en-US" sz="60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реобладают  как  в  пище так  и  в  тел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  могут  быть  растворены  в  вод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886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гут  быть  растворены  в  других  жирах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тоят  из  трёх  жирных  кислот, присоединённых  к молекуле глицерина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523880"/>
            <a:ext cx="1295280" cy="388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52388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97180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657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бывают  насыщенными  и  ненасыщенными</a:t>
            </a:r>
            <a:r>
              <a:rPr b="0" lang="en-US" sz="2400" spc="-1" strike="noStrike">
                <a:solidFill>
                  <a:srgbClr val="1d7d2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146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ные 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371600"/>
            <a:ext cx="815364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H   H   H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- C - C - C -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H   H    H   H   H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нём  преобладают  насыщенные  ж.к-ты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r>
              <a:rPr b="0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вёрдый  при  комнатной  t</a:t>
            </a:r>
            <a:r>
              <a:rPr b="1" lang="en-US" sz="3200" spc="-1" strike="noStrike" baseline="30000">
                <a:solidFill>
                  <a:srgbClr val="1d7d2b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делает  стенки  клеток  не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пособствует  образованию  тромб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окращает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коронарны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уды  серд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 насыщенных  жиров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 животные  жиры, за  исключением  рыбьего  жира, - сливочное масло, свиной жир и т. д. Кокосовое  и  пальмовое  масло - исключения  в  растительном  мир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 H   H   H 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I     I     I 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= C - C - C =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            I           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             H            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5:35:14Z</dcterms:created>
  <dc:creator>Our Home</dc:creator>
  <dc:description/>
  <dc:language>en-US</dc:language>
  <cp:lastModifiedBy>Черевичная Вера Петровна</cp:lastModifiedBy>
  <dcterms:modified xsi:type="dcterms:W3CDTF">2007-05-15T19:01:04Z</dcterms:modified>
  <cp:revision>19</cp:revision>
  <dc:subject/>
  <dc:title>ЖИРЫ</dc:title>
</cp:coreProperties>
</file>